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200-5ECC-40B0-8E47-DECD9107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F1C-D9C1-4C5F-831A-553F8FBD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6D1-D3D0-420F-A083-39B1E39E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BC7-4AC3-449D-A1DE-38053C47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A17-EF63-408F-9879-9459806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F00-AE45-452F-B94A-B16CC2C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489-3727-4044-8ABF-8C4F683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C66-5766-4304-BF59-0757117A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D48-18CD-4974-BC11-8168C192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B97-A444-4A09-9496-18FB457F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D08-FFB2-4F3E-8358-981BF5E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4A7-6BDB-416D-A4AA-9614665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29D3-0091-44E0-868D-E5E1322EA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9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90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4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3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15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846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User</cp:lastModifiedBy>
  <cp:lastPrinted>1899-12-30T00:00:00Z</cp:lastPrinted>
  <dcterms:modified xsi:type="dcterms:W3CDTF">2012-05-02T04:00:02Z</dcterms:modified>
  <cp:revision>21</cp:revision>
  <dc:subject/>
  <dc:title>幻灯片 1</dc:title>
</cp:coreProperties>
</file>